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DC3-378F-4914-ADC8-04EAA0D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BFB-4365-4881-B8CF-E973B2B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029-9878-440E-8DBB-0DEC2360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BD2-9EF9-450B-B302-AB73892D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B57-5629-4616-81D1-E2F9ED85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079-CB6F-466E-9E79-90D5FC07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B10-AE22-4D6C-BE70-8C402474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4C6-36B0-468C-9127-9C5D0B32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3D9-D3A0-4446-9B2C-8991F1DA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3DC-87B1-4E86-8C65-5212A15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A7B-0368-4994-BA20-DEDD911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508-0D1D-4514-9300-09AF61B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093F-1BE0-4D0B-A2B4-807387FE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44.pn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09680"/>
            <a:ext cx="8381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Graph of a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8991720" cy="417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556236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143000" y="1600200"/>
          <a:ext cx="5257800" cy="96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1600200"/>
                    <a:ext cx="52578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09480" y="3691080"/>
            <a:ext cx="7543800" cy="48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09480" y="4419720"/>
            <a:ext cx="769644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5334120" cy="539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533520" y="1143000"/>
            <a:ext cx="8076960" cy="477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33520" y="1752480"/>
            <a:ext cx="5105160" cy="460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533520" y="2387520"/>
            <a:ext cx="7543800" cy="8604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304920" y="3352680"/>
            <a:ext cx="8076960" cy="3359160"/>
            <a:chOff x="304920" y="3352680"/>
            <a:chExt cx="8076960" cy="3359160"/>
          </a:xfrm>
        </p:grpSpPr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457200" y="3352680"/>
              <a:ext cx="7924680" cy="28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7"/>
            <a:stretch/>
          </p:blipFill>
          <p:spPr>
            <a:xfrm>
              <a:off x="304920" y="6248520"/>
              <a:ext cx="4267080" cy="4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8"/>
            <a:stretch/>
          </p:blipFill>
          <p:spPr>
            <a:xfrm>
              <a:off x="4572000" y="6267600"/>
              <a:ext cx="2590920" cy="41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29000" y="228600"/>
            <a:ext cx="5334120" cy="53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62120" y="838080"/>
            <a:ext cx="6629400" cy="75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33200" y="1523880"/>
            <a:ext cx="4038840" cy="55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172040" y="1585800"/>
            <a:ext cx="1752480" cy="505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33200" y="2195640"/>
            <a:ext cx="4191120" cy="426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4295880" y="2133720"/>
            <a:ext cx="1676160" cy="47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200160" y="2743200"/>
            <a:ext cx="3929040" cy="449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4219560" y="2790720"/>
            <a:ext cx="1828800" cy="435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200160" y="3295800"/>
            <a:ext cx="6400800" cy="473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6172200" y="3809880"/>
            <a:ext cx="2924280" cy="2100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2"/>
          <a:stretch/>
        </p:blipFill>
        <p:spPr>
          <a:xfrm>
            <a:off x="152280" y="3886200"/>
            <a:ext cx="6000840" cy="3430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3"/>
          <a:stretch/>
        </p:blipFill>
        <p:spPr>
          <a:xfrm>
            <a:off x="114480" y="4191120"/>
            <a:ext cx="2885760" cy="2095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4"/>
          <a:stretch/>
        </p:blipFill>
        <p:spPr>
          <a:xfrm>
            <a:off x="3009960" y="4219560"/>
            <a:ext cx="2933640" cy="20289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52280" y="6324480"/>
            <a:ext cx="6858000" cy="463680"/>
            <a:chOff x="152280" y="6324480"/>
            <a:chExt cx="6858000" cy="463680"/>
          </a:xfrm>
        </p:grpSpPr>
        <p:pic>
          <p:nvPicPr>
            <p:cNvPr id="100" name="" descr=""/>
            <p:cNvPicPr/>
            <p:nvPr/>
          </p:nvPicPr>
          <p:blipFill>
            <a:blip r:embed="rId15"/>
            <a:stretch/>
          </p:blipFill>
          <p:spPr>
            <a:xfrm>
              <a:off x="152280" y="6324480"/>
              <a:ext cx="426744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16"/>
            <a:stretch/>
          </p:blipFill>
          <p:spPr>
            <a:xfrm>
              <a:off x="4419720" y="6343560"/>
              <a:ext cx="2590560" cy="4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" descr=""/>
          <p:cNvPicPr/>
          <p:nvPr/>
        </p:nvPicPr>
        <p:blipFill>
          <a:blip r:embed="rId17"/>
          <a:srcRect l="0" t="0" r="59654" b="-6966"/>
          <a:stretch/>
        </p:blipFill>
        <p:spPr>
          <a:xfrm>
            <a:off x="7238880" y="6353280"/>
            <a:ext cx="13716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362320" cy="5936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666880" y="2133720"/>
            <a:ext cx="3505320" cy="6094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8915400" cy="12193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0010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696000" cy="538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066680" y="4572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rice of Gasoline, Adjusted for Inf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3084480"/>
            <a:ext cx="73915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057400" cy="627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080" y="2050920"/>
            <a:ext cx="883440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162920" cy="57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981080" y="2819520"/>
            <a:ext cx="5181840" cy="2908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948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graphs of fun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162920" cy="574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are graphs of fun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828800" y="2666880"/>
            <a:ext cx="57913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89913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8305920" cy="403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1676520"/>
            <a:ext cx="3800520" cy="2771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191120" y="1752480"/>
            <a:ext cx="4524120" cy="771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233960" y="2514600"/>
            <a:ext cx="3371760" cy="46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314960" y="3200400"/>
            <a:ext cx="3076560" cy="380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4343400" y="3809880"/>
            <a:ext cx="2629080" cy="381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2286000" y="4572000"/>
            <a:ext cx="6143760" cy="41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2286000" y="5257800"/>
            <a:ext cx="4753080" cy="333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2286000" y="5791320"/>
            <a:ext cx="421020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3T22:06:19Z</dcterms:modified>
  <cp:revision>2</cp:revision>
  <dc:subject/>
  <dc:title>Slide 1</dc:title>
</cp:coreProperties>
</file>